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amera.wav" ContentType="audio/x-wav"/>
  <Override PartName="/ppt/media/image7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7398-32CE-4BE2-A315-E11056AC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F45-C6E4-4183-A4FB-77FF13CD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6425-F186-44C7-9D7B-8254C69E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8524-7EBA-4800-8A69-6D88687E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70FF-74A8-430E-B649-2B22CAFD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47B8-12FB-4DBA-A82C-A9278945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531F-4923-41F6-9A86-80EC8355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8934-A729-40E8-992B-0F4F35F8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C83A-B969-4B1E-B7A1-997BB1C0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1307-A5B7-4017-84DB-D54B4A7D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949F-B800-4CD3-8FD0-B1CBD07C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A1CD-46B7-4138-94CC-7F254FFD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13C0-5803-4C64-A3C1-9C9C8F3A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2DBB-4F22-43B4-8597-7E3ED871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5712-1E57-457D-840A-DF80787A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645D-B087-4A83-8A19-9C08C8F9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BD4C-321D-4176-B6BB-F83836D2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74A2-76A5-464E-ABC3-45DFA3CD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5B69-D71E-418C-A60B-E1E8A6E5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D262-096F-429D-B39F-0E3A66C1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3D5-6576-4791-9DF4-092F24ED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A416-25EA-4E8F-A053-48623A54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493-7A07-4D2D-A602-61293421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9A65-0DDB-47AE-8D68-5BFB8900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DC9C-CF8F-49A8-BDD2-8413F4699E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B093-3BE7-4986-ACD8-7CF72C30A24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Garamond"/>
              </a:rPr>
              <a:t>Презентаци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99"/>
                </a:solidFill>
                <a:latin typeface="Garamond"/>
              </a:rPr>
              <a:t>Плавание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Мои достижения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4198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ой первый дипл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7" descr="img398"/>
          <p:cNvPicPr/>
          <p:nvPr/>
        </p:nvPicPr>
        <p:blipFill>
          <a:blip r:embed="rId1"/>
          <a:stretch/>
        </p:blipFill>
        <p:spPr>
          <a:xfrm>
            <a:off x="3132000" y="1268280"/>
            <a:ext cx="288000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060640"/>
            <a:ext cx="8147160" cy="251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99"/>
                </a:solidFill>
                <a:latin typeface="Garamond"/>
              </a:rPr>
              <a:t>Благодарю за </a:t>
            </a:r>
            <a:br>
              <a:rPr sz="4800"/>
            </a:br>
            <a:r>
              <a:rPr b="0" i="1" lang="ru-RU" sz="4800" spc="-1" strike="noStrike">
                <a:solidFill>
                  <a:srgbClr val="000099"/>
                </a:solidFill>
                <a:latin typeface="Garamond"/>
              </a:rPr>
              <a:t>внимание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5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Давайте познакомимся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520524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еня зовут Саша Челышев. Я родился в 1997 году. Я учусь в школе № 10, в 4-а класс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7" descr="IMG_0165"/>
          <p:cNvPicPr/>
          <p:nvPr/>
        </p:nvPicPr>
        <p:blipFill>
          <a:blip r:embed="rId1"/>
          <a:stretch/>
        </p:blipFill>
        <p:spPr>
          <a:xfrm>
            <a:off x="1979640" y="1484280"/>
            <a:ext cx="511344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Дворец  Водных видов спорта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54198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Мой самый любимый вид спорта это плавание. Я им занимаюсь во Дворце Водных видов спор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7" descr="IMG_0013"/>
          <p:cNvPicPr/>
          <p:nvPr/>
        </p:nvPicPr>
        <p:blipFill>
          <a:blip r:embed="rId1"/>
          <a:stretch/>
        </p:blipFill>
        <p:spPr>
          <a:xfrm>
            <a:off x="1979640" y="1341360"/>
            <a:ext cx="5184720" cy="38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Мой тренер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оего любимого тренера зовут Татьяна Юрьевна. Она очень добрая и справедлива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7" descr="IMG_0024"/>
          <p:cNvPicPr/>
          <p:nvPr/>
        </p:nvPicPr>
        <p:blipFill>
          <a:blip r:embed="rId1"/>
          <a:stretch/>
        </p:blipFill>
        <p:spPr>
          <a:xfrm>
            <a:off x="4211640" y="1341360"/>
            <a:ext cx="415296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Мои друзья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ои лучшие друзья в бассейне Данил, Владик, Иль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7" descr="IMG_0015"/>
          <p:cNvPicPr/>
          <p:nvPr/>
        </p:nvPicPr>
        <p:blipFill>
          <a:blip r:embed="rId1"/>
          <a:stretch/>
        </p:blipFill>
        <p:spPr>
          <a:xfrm>
            <a:off x="1979640" y="1600200"/>
            <a:ext cx="5040360" cy="346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Это мои товарищи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501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Это наша группа по плаванию. В нашей группе есть три девочки, которые нам не уступаю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7" descr="IMG_0009"/>
          <p:cNvPicPr/>
          <p:nvPr/>
        </p:nvPicPr>
        <p:blipFill>
          <a:blip r:embed="rId1"/>
          <a:stretch/>
        </p:blipFill>
        <p:spPr>
          <a:xfrm>
            <a:off x="2268360" y="1557360"/>
            <a:ext cx="4392720" cy="326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Я на тренировке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522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не очень нравится плавать, особенно на соревнованиях. Ещё я люблю плавать в ластах и с доск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11" descr="IMG_0010"/>
          <p:cNvPicPr/>
          <p:nvPr/>
        </p:nvPicPr>
        <p:blipFill>
          <a:blip r:embed="rId1"/>
          <a:stretch/>
        </p:blipFill>
        <p:spPr>
          <a:xfrm>
            <a:off x="2411280" y="1341360"/>
            <a:ext cx="475308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Тренировки</a:t>
            </a:r>
            <a:r>
              <a:rPr b="1" lang="ru-RU" sz="44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522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ы тренируемся  шесть раз в неделю. Мы плаваем комплексом: баттерфляй, спина, брасс, крол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IMG_0005"/>
          <p:cNvPicPr/>
          <p:nvPr/>
        </p:nvPicPr>
        <p:blipFill>
          <a:blip r:embed="rId1"/>
          <a:stretch/>
        </p:blipFill>
        <p:spPr>
          <a:xfrm>
            <a:off x="1908000" y="1413000"/>
            <a:ext cx="554364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Тренировки  в спортзале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Три раза в неделю мы занимаемся на тренажёрах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8" descr="IMG_0019"/>
          <p:cNvPicPr/>
          <p:nvPr/>
        </p:nvPicPr>
        <p:blipFill>
          <a:blip r:embed="rId1"/>
          <a:stretch/>
        </p:blipFill>
        <p:spPr>
          <a:xfrm>
            <a:off x="2050920" y="1484280"/>
            <a:ext cx="489744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8:06:47Z</dcterms:created>
  <dc:creator>Nemo</dc:creator>
  <dc:description/>
  <dc:language>en-US</dc:language>
  <cp:lastModifiedBy>Ирина Петровна</cp:lastModifiedBy>
  <dcterms:modified xsi:type="dcterms:W3CDTF">2009-08-17T15:10:36Z</dcterms:modified>
  <cp:revision>4</cp:revision>
  <dc:subject/>
  <dc:title>Презентация</dc:title>
</cp:coreProperties>
</file>